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77B-104C-4F63-8787-84C79DBA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FCF-A5DF-4133-898E-1A1798C4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4E6-E362-4D09-B86C-044AE215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7EE-CDAF-49D1-B433-420B6B4F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C6F-4082-4663-926C-2B7DC4B9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587-49F1-4528-BAC3-62AC324C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ADA-F9C0-4238-A0C1-03CADFA6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55A-4C18-489B-8761-FFC68DFC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72D-08D4-4627-B7D5-3A0509E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636-A3C3-4E45-B99B-5B5E7DAA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2C0-38E0-4468-BC3D-355307DB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FE5-FF24-4D6D-B51B-1119A7B0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4A4-4519-4937-86E6-C7B10D5D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77920"/>
            <a:ext cx="84582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77920"/>
            <a:ext cx="84582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91960"/>
            <a:ext cx="89154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91960"/>
            <a:ext cx="89154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28:02Z</dcterms:created>
  <dc:creator>Patrick Mooney</dc:creator>
  <dc:description/>
  <dc:language>en-US</dc:language>
  <cp:lastModifiedBy>Patrick Mooney</cp:lastModifiedBy>
  <dcterms:modified xsi:type="dcterms:W3CDTF">2009-03-30T18:44:08Z</dcterms:modified>
  <cp:revision>2</cp:revision>
  <dc:subject/>
  <dc:title>Slide 1</dc:title>
</cp:coreProperties>
</file>